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25B-F5CF-451A-9499-3DF434EB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928-9DFC-4775-97F0-5F1C69C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4A7-8052-4AFF-9BED-CB85C232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79D-1671-48D1-949B-47CE7D4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A4EA-1FFF-42C6-A156-0D126F32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715-4CEF-4045-BCBD-C1CEE3B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EDCC-1855-4B32-89D9-00DBA2E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61F-1550-42C9-90BE-EF9C115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9C08-4700-4C54-B802-C24AEE2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B982-17AB-408C-A466-3FD8533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322-DA76-49DC-B97F-4949B02A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DEF-D20E-47CE-8DF8-D96030F4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F77-1E47-4039-839D-63A4CBD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8BD-42C5-4670-8913-9B81AA1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B3D1-09DB-4B59-9327-F4BCCBB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4A4B-1377-4156-AA04-ABFF74DE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3A3-1852-445E-ADF4-2B96489C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439-14D7-423E-B40A-73BDC18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B9D-430B-4D87-A804-AB94227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587-825B-477D-8875-77615E6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005-AAF9-4A7A-8F1E-B014633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7C2-C52A-40D1-81F0-E8C0BF6D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775-0B9B-439F-9881-DD520E3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7AB-666F-46B1-9BCE-DE79556B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AF6A-49DE-489C-A41F-AC4B7A35236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EF7-46E3-4E2D-9148-2AEA2016D5C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غفران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أللهم احفظ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1916280"/>
            <a:ext cx="41403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قلت للرب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ك سيّ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ما عد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ا خيرَ ل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064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جعلتُ الله دوماً نُصْبَ عين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رفتُ الله دوما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ن يميني لئلاّ أزِ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9638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ذلك فرح قلبي وابتهجت نفسي وجسدي أيض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رقد على الدوا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210816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ملأني فرحاً بلقي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لى يمي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نعيمي على الدوا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Charbel Azar</cp:lastModifiedBy>
  <dcterms:modified xsi:type="dcterms:W3CDTF">2002-07-17T11:29:30Z</dcterms:modified>
  <cp:revision>4</cp:revision>
  <dc:subject/>
  <dc:title>PowerPoint Presentation</dc:title>
</cp:coreProperties>
</file>